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meepmeep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CC4-AF74-44D1-8CAC-0EEF65DF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0755-E518-4505-A727-29954535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85A-77AF-4344-B8B2-EC914D5C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1BC-89D5-4A23-824E-4B81BC93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F21-744A-4692-9EB8-06848985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AF0-EAF8-45D7-A036-E54AD115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03B-74E3-4DC0-BA5C-703F0869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5A1-21BC-4E67-B4BF-69B51A5C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B44-D8DC-47B0-8456-BE0A3DF4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6F8-3636-43AD-9E29-6BB60FDF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49E-5EA4-4822-976C-97559F30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F37-4F80-43CB-A329-F41409E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C63-2A80-4069-9F27-2C5C85B93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hzipup01.wav"/><Relationship Id="rId13" Type="http://schemas.openxmlformats.org/officeDocument/2006/relationships/audio" Target="../media/zapbig0g.wav"/><Relationship Id="rId14" Type="http://schemas.openxmlformats.org/officeDocument/2006/relationships/audio" Target="../media/zapbig0g.wav"/><Relationship Id="rId15" Type="http://schemas.openxmlformats.org/officeDocument/2006/relationships/audio" Target="../media/zapbig0g.wav"/><Relationship Id="rId16" Type="http://schemas.openxmlformats.org/officeDocument/2006/relationships/audio" Target="../media/zapbig0g.wav"/><Relationship Id="rId17" Type="http://schemas.openxmlformats.org/officeDocument/2006/relationships/audio" Target="../media/zapbig0g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hzipup01.wav"/><Relationship Id="rId5" Type="http://schemas.openxmlformats.org/officeDocument/2006/relationships/audio" Target="../media/zapbig0g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hzipup01.wav"/><Relationship Id="rId10" Type="http://schemas.openxmlformats.org/officeDocument/2006/relationships/audio" Target="../media/zapbig0g.wav"/><Relationship Id="rId11" Type="http://schemas.openxmlformats.org/officeDocument/2006/relationships/audio" Target="../media/zapbig0g.wav"/><Relationship Id="rId12" Type="http://schemas.openxmlformats.org/officeDocument/2006/relationships/audio" Target="../media/zapbig0g.wav"/><Relationship Id="rId13" Type="http://schemas.openxmlformats.org/officeDocument/2006/relationships/audio" Target="../media/bserie06.wav"/><Relationship Id="rId14" Type="http://schemas.openxmlformats.org/officeDocument/2006/relationships/audio" Target="../media/bserie06.wav"/><Relationship Id="rId15" Type="http://schemas.openxmlformats.org/officeDocument/2006/relationships/audio" Target="../media/bserie06.wav"/><Relationship Id="rId16" Type="http://schemas.openxmlformats.org/officeDocument/2006/relationships/audio" Target="../media/hzipup01.wav"/><Relationship Id="rId17" Type="http://schemas.openxmlformats.org/officeDocument/2006/relationships/audio" Target="../media/zapbig0g.wav"/><Relationship Id="rId18" Type="http://schemas.openxmlformats.org/officeDocument/2006/relationships/audio" Target="../media/zapbig0g.wav"/><Relationship Id="rId19" Type="http://schemas.openxmlformats.org/officeDocument/2006/relationships/audio" Target="../media/zapbig0g.wav"/><Relationship Id="rId20" Type="http://schemas.openxmlformats.org/officeDocument/2006/relationships/audio" Target="../media/zapbig0g.wav"/><Relationship Id="rId21" Type="http://schemas.openxmlformats.org/officeDocument/2006/relationships/audio" Target="../media/zapbig0g.wav"/><Relationship Id="rId22" Type="http://schemas.openxmlformats.org/officeDocument/2006/relationships/audio" Target="../media/zapbig0g.wav"/><Relationship Id="rId23" Type="http://schemas.openxmlformats.org/officeDocument/2006/relationships/audio" Target="../media/zapbig0g.wav"/><Relationship Id="rId24" Type="http://schemas.openxmlformats.org/officeDocument/2006/relationships/audio" Target="../media/zapbig0g.wav"/><Relationship Id="rId25" Type="http://schemas.openxmlformats.org/officeDocument/2006/relationships/audio" Target="../media/hzipup01.wav"/><Relationship Id="rId26" Type="http://schemas.openxmlformats.org/officeDocument/2006/relationships/audio" Target="../media/zapbig0g.wav"/><Relationship Id="rId27" Type="http://schemas.openxmlformats.org/officeDocument/2006/relationships/audio" Target="../media/zapbig0g.wav"/><Relationship Id="rId28" Type="http://schemas.openxmlformats.org/officeDocument/2006/relationships/audio" Target="../media/zapbig0g.wav"/><Relationship Id="rId29" Type="http://schemas.openxmlformats.org/officeDocument/2006/relationships/audio" Target="../media/zapbig0g.wav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meepmeep.wav"/><Relationship Id="rId7" Type="http://schemas.openxmlformats.org/officeDocument/2006/relationships/audio" Target="../media/bserie06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meepmeep.wav"/><Relationship Id="rId11" Type="http://schemas.openxmlformats.org/officeDocument/2006/relationships/audio" Target="../media/meepmeep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meepmeep.wav"/><Relationship Id="rId5" Type="http://schemas.openxmlformats.org/officeDocument/2006/relationships/audio" Target="../media/bserie06.wav"/><Relationship Id="rId6" Type="http://schemas.openxmlformats.org/officeDocument/2006/relationships/audio" Target="../media/zapbig0g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meepmeep.wav"/><Relationship Id="rId10" Type="http://schemas.openxmlformats.org/officeDocument/2006/relationships/audio" Target="../media/meepmeep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ultipl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5200" y="2092320"/>
            <a:ext cx="23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 7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94040" y="352908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2800" y="3459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5800" y="2679840"/>
            <a:ext cx="58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94040" y="286704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90840" y="1530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25800" y="3460680"/>
            <a:ext cx="96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21240" y="209880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357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9720" y="353520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7680" y="3451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39000" y="2687760"/>
            <a:ext cx="6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45240" y="15368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3560" y="34527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82960" y="345744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,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7240" y="1530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7640" y="283536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Multipl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54080" y="160488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 8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2560" y="3041640"/>
            <a:ext cx="155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2160" y="29718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9760" y="2192400"/>
            <a:ext cx="9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2560" y="23796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14680" y="2973240"/>
            <a:ext cx="96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66760" y="36273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49280" y="3629160"/>
            <a:ext cx="96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6320" y="4413240"/>
            <a:ext cx="1841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70320" y="4395960"/>
            <a:ext cx="5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85840" y="439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55600" y="440208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1,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49920" y="15908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271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78400" y="3027240"/>
            <a:ext cx="155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29574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35600" y="2178000"/>
            <a:ext cx="9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78400" y="236520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Lucida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45320" y="2959200"/>
            <a:ext cx="6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2600" y="361332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67320" y="3614760"/>
            <a:ext cx="6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73480" y="4398840"/>
            <a:ext cx="173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5800" y="438156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81680" y="438300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4720" y="4387680"/>
            <a:ext cx="69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99040" y="2975040"/>
            <a:ext cx="8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0680" y="106524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10280" y="1095480"/>
            <a:ext cx="5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2040" y="3600360"/>
            <a:ext cx="6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37040" y="4419720"/>
            <a:ext cx="8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9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ow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5200" y="14209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1.   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73160" y="125748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71520" y="390204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03440" y="2384280"/>
                <a:ext cx="230184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15920" y="3191040"/>
                <a:ext cx="17956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3963960" y="14209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2.  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24560" y="124128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0400" y="317016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70240" y="2384280"/>
                <a:ext cx="216396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006880" y="317016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 – 8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3680" y="62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nd the Pow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5200" y="14209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3.  10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25800" y="123984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600" y="309420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47880" y="2382840"/>
                <a:ext cx="2025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963960" y="142092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4.  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8000" y="1241280"/>
            <a:ext cx="5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222800" y="2354400"/>
                <a:ext cx="23018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81360" y="3160800"/>
                <a:ext cx="1703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540400" y="399240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95920" y="3992400"/>
            <a:ext cx="142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eepm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7, 1 – 7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9, 1 – 8 #1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4-08-11T19:40:36Z</dcterms:modified>
  <cp:revision>52</cp:revision>
  <dc:subject/>
  <dc:title>Slide 1</dc:title>
</cp:coreProperties>
</file>